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2C7-ED3F-4A43-8F2B-B7C26316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318-F8DF-4893-B39C-440163B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A19-F62C-47AB-A4A1-4B6C5A39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E75-4159-45F7-8979-E0AF84AE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CE4-C949-4268-AA17-48DD54F8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139-A210-4240-B50E-B9FBBEE8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974-5396-4049-BC39-7571DBA2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1D2-6401-4900-8A5D-537B6BD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0A5-71E4-49E0-9409-6585FD9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FAF-80B1-4F5B-A8A7-C73E39E9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819-3200-403A-A08F-23ACC91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B59-D909-4759-9629-BF21AA6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8FF-DB2F-4137-A564-C3B0CECF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for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969-769C-48C8-B4C2-C465A754D7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217-0784-49F8-9802-95A5F626B7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386-3EE7-418F-940A-02DD6CE0A8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24B-C6D5-49AD-8DC6-786286369A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97A-1D85-43C3-85D7-1BDCF15AB3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14E-A483-4998-A31C-65007127A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37D-F935-4FEB-B777-0E4490C160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12A-171B-4027-80D6-CAEC91EDC7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60282" r="0" b="0"/>
          <a:stretch/>
        </p:blipFill>
        <p:spPr>
          <a:xfrm>
            <a:off x="685800" y="4343400"/>
            <a:ext cx="7696080" cy="220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388620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i square test should be significant because Z test is significa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3280" y="4876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14" r="0" b="39733"/>
          <a:stretch/>
        </p:blipFill>
        <p:spPr>
          <a:xfrm>
            <a:off x="685800" y="380880"/>
            <a:ext cx="7772400" cy="335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46540" t="89050" r="45552" b="0"/>
          <a:stretch/>
        </p:blipFill>
        <p:spPr>
          <a:xfrm>
            <a:off x="5105520" y="48769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6F6-2A29-4D3B-9F98-72FD75CD99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negative values of the normal statistic</a:t>
            </a: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28287" t="22224" r="44451" b="61910"/>
          <a:stretch/>
        </p:blipFill>
        <p:spPr>
          <a:xfrm>
            <a:off x="4343400" y="3733920"/>
            <a:ext cx="205740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00800" y="3657600"/>
            <a:ext cx="12193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F86-92C7-458A-8902-8EC66387CE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5715000"/>
            <a:ext cx="7086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6C1-4BFB-428B-BC06-BDCD293416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9B2-3A05-4FD0-8A15-13E39E520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348-6AF3-466D-B817-A21004C4E6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9865" r="0" b="0"/>
          <a:stretch/>
        </p:blipFill>
        <p:spPr>
          <a:xfrm>
            <a:off x="838080" y="1219320"/>
            <a:ext cx="762012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858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Two-si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31005" b="90149"/>
          <a:stretch/>
        </p:blipFill>
        <p:spPr>
          <a:xfrm>
            <a:off x="838080" y="685800"/>
            <a:ext cx="525780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6858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300-6F78-47CE-887E-B7C933AAE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4FD-A410-4F68-B4D1-8B91F7494F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8EB-F3DD-4DFC-B0D0-14F481F209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827-1F78-467A-8938-717EE7093A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F6B-C433-409C-A5AE-1F95143FA1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4496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A61-50CC-478E-8AD0-83CE040FBC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6C3-A18C-4271-9326-64EDDE07C5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866-D5F8-4AF5-87D7-8B37DF0EB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185-F4A5-4089-8459-E3D5DCEC10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AD6-7977-4256-85FD-B106BC4C57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EF9-309A-4EE0-B577-3641673BE8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55E-AC54-423D-A5C2-826F36DFAC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C71-74D1-4750-AEEA-07E7120031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A61-865A-4A8B-AC9B-9399CD8AA4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F40-702A-4D0D-A24F-0793006AA7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B2E-C03E-4EDE-A6C1-7CA24B1D6F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988-5842-4F51-BB86-92A3786AF5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9AE-0E1A-4AA7-93FC-77EA90FB61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433-6954-4D58-B5FF-1B4D5703E0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ECB-C409-4872-BE62-36041B36A7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6672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D52-1A79-47EA-B3C6-A635F7ADF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1EE-E459-4764-8459-5F0014FA07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1F1-37C3-47CA-BBF0-669A45E4C4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F8E-C897-44AF-9B7D-DFC0B754B5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B84-0C2D-4F77-A572-72E54A06B9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C8B-B634-4F4D-B977-03115D3245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339-2FDD-4C88-ABA5-67BB603F90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64F-4A5C-4CCD-9AE2-D8611783F36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083-7EDB-4D27-ACDC-37BCD34B2B2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5B3-03BB-4FF7-AD96-4604509664F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9EC-50C5-42FE-BFD6-5AB5E5E3A06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3F7-D677-4699-BBE9-DA50819EE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673-9FD3-4F76-BACF-A14FB06E3F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410-0C12-4EA1-8568-8E49CEBDBCE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802-702D-47B6-AF17-1613B6AE30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2E5-8D05-4AF1-A9B5-EA6DB052EC3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809-5784-4336-B23F-33F2C1AFF7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71E-69E3-4C67-9E33-B974765A9F2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13D-ED87-404F-A996-F325F3AF540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761976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5D4-46DB-49F8-816E-8D8A1B9849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725-E693-4177-BD60-0419957B008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E1E-EDEF-4A62-A4B0-CAF6CC4A0A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381880" y="53352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EB4-86A0-4CDF-B11F-B79E7D05EB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DB1-C69A-40F9-AF24-E4C9DA56A4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18D-A069-4137-9635-7F31589BC9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20:07:00Z</dcterms:modified>
  <cp:revision>197</cp:revision>
  <dc:subject/>
  <dc:title>Slide 1</dc:title>
</cp:coreProperties>
</file>